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40.jpeg" ContentType="image/jpeg"/>
  <Override PartName="/ppt/media/image55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48.jpeg" ContentType="image/jpeg"/>
  <Override PartName="/ppt/media/image53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11.png" ContentType="image/png"/>
  <Override PartName="/ppt/media/image9.jpeg" ContentType="image/jpe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59F-8052-4EB6-8D48-CB84FD1A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F9D-EFC1-4515-B414-7C9872F1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4D2-357D-496A-98F7-6102D66D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AFB-2758-4E26-92C5-22B374B9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931-8B90-42AA-B0E9-429DEC1A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CE4-5CAC-45C2-B060-E770422D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653-77BA-4593-B8BA-3851B6CE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97D-3DDD-40EB-A61D-07BBF329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7F9-B81C-4352-B9F8-84E4169B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04B0-9A52-4F2C-B7A9-AD073F50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50F-211B-4096-B8B1-16DDEAB1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080-C75D-44EC-9E7A-C8409A68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A28A-1514-41DE-8B6B-F991EAD6D857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image" Target="../media/image31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image" Target="../media/image32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3.jpeg"/><Relationship Id="rId4" Type="http://schemas.openxmlformats.org/officeDocument/2006/relationships/image" Target="../media/image31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1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0.jpeg"/><Relationship Id="rId4" Type="http://schemas.openxmlformats.org/officeDocument/2006/relationships/image" Target="../media/image36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1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956720" y="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9960" y="228600"/>
            <a:ext cx="738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La Guerra Civil Españo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afich-espag3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6629400" cy="5199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03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05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1703520" y="1149480"/>
            <a:ext cx="6796080" cy="360"/>
            <a:chOff x="1703520" y="1149480"/>
            <a:chExt cx="6796080" cy="360"/>
          </a:xfrm>
        </p:grpSpPr>
        <p:sp>
          <p:nvSpPr>
            <p:cNvPr id="108" name=""/>
            <p:cNvSpPr/>
            <p:nvPr/>
          </p:nvSpPr>
          <p:spPr>
            <a:xfrm>
              <a:off x="1703520" y="1149480"/>
              <a:ext cx="6796080" cy="36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03520" y="1149480"/>
              <a:ext cx="6796080" cy="36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703520" y="1149480"/>
            <a:ext cx="6796080" cy="360"/>
            <a:chOff x="1703520" y="1149480"/>
            <a:chExt cx="6796080" cy="360"/>
          </a:xfrm>
        </p:grpSpPr>
        <p:sp>
          <p:nvSpPr>
            <p:cNvPr id="111" name=""/>
            <p:cNvSpPr/>
            <p:nvPr/>
          </p:nvSpPr>
          <p:spPr>
            <a:xfrm>
              <a:off x="1703520" y="1149480"/>
              <a:ext cx="6796080" cy="36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03520" y="1149480"/>
              <a:ext cx="6796080" cy="36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03520" y="1149480"/>
            <a:ext cx="5736960" cy="45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15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17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16120" y="968400"/>
            <a:ext cx="5737320" cy="45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21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26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28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16120" y="968400"/>
            <a:ext cx="5737320" cy="45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32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34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37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16120" y="968400"/>
            <a:ext cx="5737320" cy="45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43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45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48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50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16120" y="968400"/>
            <a:ext cx="5737320" cy="45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54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56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59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61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16120" y="968400"/>
            <a:ext cx="5737320" cy="45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65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67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170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172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16120" y="968400"/>
            <a:ext cx="5737320" cy="45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6-1939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Guerra Civil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187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murieron más de un milló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de person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286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52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9-1975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dictadura de Franco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franco1" descr=""/>
          <p:cNvPicPr/>
          <p:nvPr/>
        </p:nvPicPr>
        <p:blipFill>
          <a:blip r:embed="rId1"/>
          <a:stretch/>
        </p:blipFill>
        <p:spPr>
          <a:xfrm>
            <a:off x="2444760" y="990720"/>
            <a:ext cx="3727440" cy="541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75 – 2007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democracia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ag2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610480" cy="5208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2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1-1936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Segunda República</a:t>
            </a: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64972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6933960" cy="6915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67528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001880" y="5446800"/>
            <a:ext cx="761760" cy="142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754200" y="5661000"/>
            <a:ext cx="1009440" cy="12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64972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67528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074600" y="-457200"/>
            <a:ext cx="5631120" cy="8381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908000" y="5950080"/>
            <a:ext cx="1047960" cy="142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1978200" y="6237360"/>
            <a:ext cx="1009440" cy="12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64972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67528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0" y="0"/>
            <a:ext cx="8381520" cy="7619760"/>
            <a:chOff x="0" y="0"/>
            <a:chExt cx="8381520" cy="7619760"/>
          </a:xfrm>
        </p:grpSpPr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381520" cy="69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4"/>
            <a:stretch/>
          </p:blipFill>
          <p:spPr>
            <a:xfrm>
              <a:off x="0" y="7129440"/>
              <a:ext cx="230148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0" y="7441200"/>
              <a:ext cx="1244520" cy="178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64972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67528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-380880" y="0"/>
            <a:ext cx="7314480" cy="7391160"/>
            <a:chOff x="-380880" y="0"/>
            <a:chExt cx="7314480" cy="7391160"/>
          </a:xfrm>
        </p:grpSpPr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1167480" y="0"/>
              <a:ext cx="5766120" cy="73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4"/>
            <a:stretch/>
          </p:blipFill>
          <p:spPr>
            <a:xfrm>
              <a:off x="-380880" y="6844680"/>
              <a:ext cx="1325880" cy="16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5"/>
            <a:stretch/>
          </p:blipFill>
          <p:spPr>
            <a:xfrm>
              <a:off x="-290160" y="7100640"/>
              <a:ext cx="1276920" cy="146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67528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62120" y="-762120"/>
            <a:ext cx="6192720" cy="8991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611280" y="6237360"/>
            <a:ext cx="1238040" cy="358560"/>
            <a:chOff x="611280" y="6237360"/>
            <a:chExt cx="1238040" cy="3585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787320" y="6237360"/>
              <a:ext cx="104796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611280" y="6453360"/>
              <a:ext cx="1238040" cy="142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67528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-380880" y="0"/>
            <a:ext cx="8305560" cy="7314840"/>
            <a:chOff x="-380880" y="0"/>
            <a:chExt cx="8305560" cy="731484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-42480" y="0"/>
              <a:ext cx="7967160" cy="70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3"/>
            <a:stretch/>
          </p:blipFill>
          <p:spPr>
            <a:xfrm>
              <a:off x="-380880" y="74520"/>
              <a:ext cx="168120" cy="161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4"/>
            <a:stretch/>
          </p:blipFill>
          <p:spPr>
            <a:xfrm>
              <a:off x="-42480" y="7153560"/>
              <a:ext cx="437040" cy="16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528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tograf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228600" y="0"/>
            <a:ext cx="6629040" cy="6857640"/>
            <a:chOff x="228600" y="0"/>
            <a:chExt cx="6629040" cy="685764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2064600" y="0"/>
              <a:ext cx="47930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4"/>
            <a:stretch/>
          </p:blipFill>
          <p:spPr>
            <a:xfrm>
              <a:off x="228600" y="6520320"/>
              <a:ext cx="1661040" cy="2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5"/>
            <a:stretch/>
          </p:blipFill>
          <p:spPr>
            <a:xfrm>
              <a:off x="464760" y="6211800"/>
              <a:ext cx="1406160" cy="20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5075640" y="2877120"/>
            <a:ext cx="6861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ffffff"/>
                </a:solidFill>
                <a:latin typeface="Tahoma"/>
              </a:rPr>
              <a:t>Los carte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7451640" cy="136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5782680" y="326520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ahoma"/>
              </a:rPr>
              <a:t>Los carte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2040" y="-124560"/>
            <a:ext cx="7880040" cy="7021080"/>
            <a:chOff x="302040" y="-124560"/>
            <a:chExt cx="7880040" cy="702108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 rot="820800">
              <a:off x="4678200" y="1186920"/>
              <a:ext cx="3036600" cy="43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 rot="21084000">
              <a:off x="761760" y="151920"/>
              <a:ext cx="4189320" cy="646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8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5782680" y="326520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ahoma"/>
              </a:rPr>
              <a:t>Los carte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04640" y="241200"/>
            <a:ext cx="7255800" cy="6464160"/>
            <a:chOff x="404640" y="241200"/>
            <a:chExt cx="7255800" cy="646416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404640" y="241200"/>
              <a:ext cx="4566600" cy="64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 rot="300600">
              <a:off x="4425480" y="1815840"/>
              <a:ext cx="3041280" cy="456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6-1939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Guerra Civil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panish_civil_war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962520" cy="27162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0" y="4343400"/>
            <a:ext cx="9143640" cy="2590560"/>
            <a:chOff x="0" y="4343400"/>
            <a:chExt cx="9143640" cy="259056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843920" y="4343400"/>
              <a:ext cx="3549960" cy="258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0" y="4343400"/>
              <a:ext cx="229392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4525200" y="4343400"/>
              <a:ext cx="3245760" cy="258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6067440" y="4343400"/>
              <a:ext cx="152172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6"/>
            <a:stretch/>
          </p:blipFill>
          <p:spPr>
            <a:xfrm>
              <a:off x="7494840" y="4343400"/>
              <a:ext cx="164880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7"/>
            <a:stretch/>
          </p:blipFill>
          <p:spPr>
            <a:xfrm>
              <a:off x="1644480" y="4343400"/>
              <a:ext cx="1535760" cy="2588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6340680" y="2707920"/>
            <a:ext cx="5543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ahoma"/>
              </a:rPr>
              <a:t>Los carte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93600" y="-101880"/>
            <a:ext cx="7491240" cy="7024680"/>
            <a:chOff x="93600" y="-101880"/>
            <a:chExt cx="7491240" cy="7024680"/>
          </a:xfrm>
        </p:grpSpPr>
        <p:pic>
          <p:nvPicPr>
            <p:cNvPr id="271" name="" descr=""/>
            <p:cNvPicPr/>
            <p:nvPr/>
          </p:nvPicPr>
          <p:blipFill>
            <a:blip r:embed="rId2"/>
            <a:stretch/>
          </p:blipFill>
          <p:spPr>
            <a:xfrm>
              <a:off x="3537720" y="408600"/>
              <a:ext cx="4047120" cy="65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 rot="351000">
              <a:off x="380520" y="76320"/>
              <a:ext cx="3795120" cy="583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3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6340680" y="2707920"/>
            <a:ext cx="5543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ahoma"/>
              </a:rPr>
              <a:t>Los carte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13400" y="-95760"/>
            <a:ext cx="7050600" cy="7205040"/>
            <a:chOff x="113400" y="-95760"/>
            <a:chExt cx="7050600" cy="720504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 rot="21148800">
              <a:off x="533520" y="155520"/>
              <a:ext cx="4283280" cy="67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4080960" y="671040"/>
              <a:ext cx="3083040" cy="471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0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5782680" y="326520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rte e ilustr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55640" y="836640"/>
            <a:ext cx="1446120" cy="1800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11280" y="946080"/>
            <a:ext cx="4305600" cy="176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5782680" y="326520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rte e ilustr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013600" y="46080"/>
            <a:ext cx="1130400" cy="1438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0" y="0"/>
            <a:ext cx="9448560" cy="7466760"/>
            <a:chOff x="0" y="0"/>
            <a:chExt cx="9448560" cy="746676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448560" cy="69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4"/>
            <a:stretch/>
          </p:blipFill>
          <p:spPr>
            <a:xfrm>
              <a:off x="128160" y="7252200"/>
              <a:ext cx="1117440" cy="21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5136120" y="2936520"/>
            <a:ext cx="674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literatu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57040" y="609480"/>
            <a:ext cx="7439040" cy="393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7236000" y="0"/>
            <a:ext cx="19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32600" y="-27000"/>
            <a:ext cx="1247760" cy="697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6752880" y="424044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litera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1324080" cy="17953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817720" y="620640"/>
            <a:ext cx="4954680" cy="5399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395280" y="2492280"/>
            <a:ext cx="2190600" cy="4190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8028000" y="42840"/>
            <a:ext cx="1131840" cy="144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6-1939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Guerra Civil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37160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El gobierno leg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dern No. 20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Repúbl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es-1931s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5170320" cy="3426120"/>
          </a:xfrm>
          <a:prstGeom prst="rect">
            <a:avLst/>
          </a:prstGeom>
          <a:ln w="0">
            <a:noFill/>
          </a:ln>
        </p:spPr>
      </p:pic>
      <p:pic>
        <p:nvPicPr>
          <p:cNvPr id="61" name="res" descr=""/>
          <p:cNvPicPr/>
          <p:nvPr/>
        </p:nvPicPr>
        <p:blipFill>
          <a:blip r:embed="rId2"/>
          <a:stretch/>
        </p:blipFill>
        <p:spPr>
          <a:xfrm>
            <a:off x="5878440" y="1295280"/>
            <a:ext cx="2846520" cy="4343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4952880" y="6019920"/>
            <a:ext cx="914400" cy="485640"/>
          </a:xfrm>
          <a:prstGeom prst="rightArrow">
            <a:avLst>
              <a:gd name="adj1" fmla="val 50000"/>
              <a:gd name="adj2" fmla="val 4707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6-1939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Guerra Civil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371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os nacionalist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es-1945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295960" cy="3508560"/>
          </a:xfrm>
          <a:prstGeom prst="rect">
            <a:avLst/>
          </a:prstGeom>
          <a:ln w="0">
            <a:noFill/>
          </a:ln>
        </p:spPr>
      </p:pic>
      <p:pic>
        <p:nvPicPr>
          <p:cNvPr id="66" name="viva" descr=""/>
          <p:cNvPicPr/>
          <p:nvPr/>
        </p:nvPicPr>
        <p:blipFill>
          <a:blip r:embed="rId2"/>
          <a:stretch/>
        </p:blipFill>
        <p:spPr>
          <a:xfrm>
            <a:off x="6324480" y="2209680"/>
            <a:ext cx="2057400" cy="1059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943600" y="1600200"/>
            <a:ext cx="876240" cy="485640"/>
          </a:xfrm>
          <a:prstGeom prst="rightArrow">
            <a:avLst>
              <a:gd name="adj1" fmla="val 50000"/>
              <a:gd name="adj2" fmla="val 45107"/>
            </a:avLst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660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frontpage" descr=""/>
          <p:cNvPicPr/>
          <p:nvPr/>
        </p:nvPicPr>
        <p:blipFill>
          <a:blip r:embed="rId3"/>
          <a:stretch/>
        </p:blipFill>
        <p:spPr>
          <a:xfrm>
            <a:off x="6324480" y="3352680"/>
            <a:ext cx="1990800" cy="273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6-1939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Guerra Civil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86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panish_civil_war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2057400" cy="1409760"/>
          </a:xfrm>
          <a:prstGeom prst="rect">
            <a:avLst/>
          </a:prstGeom>
          <a:ln w="0">
            <a:noFill/>
          </a:ln>
        </p:spPr>
      </p:pic>
      <p:pic>
        <p:nvPicPr>
          <p:cNvPr id="75" name="fascistpriests" descr="Spanish priests give the fascist salute"/>
          <p:cNvPicPr/>
          <p:nvPr/>
        </p:nvPicPr>
        <p:blipFill>
          <a:blip r:embed="rId2"/>
          <a:stretch/>
        </p:blipFill>
        <p:spPr>
          <a:xfrm>
            <a:off x="6796080" y="5410080"/>
            <a:ext cx="1890720" cy="1300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 flipH="1">
            <a:off x="7848720" y="2057400"/>
            <a:ext cx="914400" cy="485640"/>
          </a:xfrm>
          <a:prstGeom prst="rightArrow">
            <a:avLst>
              <a:gd name="adj1" fmla="val 50000"/>
              <a:gd name="adj2" fmla="val 4707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3505320"/>
            <a:ext cx="876600" cy="485640"/>
          </a:xfrm>
          <a:prstGeom prst="rightArrow">
            <a:avLst>
              <a:gd name="adj1" fmla="val 50000"/>
              <a:gd name="adj2" fmla="val 45126"/>
            </a:avLst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825560"/>
            <a:ext cx="74674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izquierda (la Repúblic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clase obr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derecha (los nacionalista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igles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el ejérci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os ric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838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99"/>
                </a:solidFill>
                <a:latin typeface="Modern No. 20"/>
                <a:ea typeface="Times New Roman"/>
              </a:rPr>
              <a:t>¡¡Las dos Españas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685800" y="3049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6-1939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Guerra Civil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87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batallas terrib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81827c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248160" cy="3908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2286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1936-1939 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GB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La Guerra Civil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187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el bombardeo de Guernic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(por los aleman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286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Modern No. 20"/>
                <a:ea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guernica" descr=""/>
          <p:cNvPicPr/>
          <p:nvPr/>
        </p:nvPicPr>
        <p:blipFill>
          <a:blip r:embed="rId1"/>
          <a:stretch/>
        </p:blipFill>
        <p:spPr>
          <a:xfrm>
            <a:off x="304920" y="2960640"/>
            <a:ext cx="8458200" cy="3668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558800" y="922320"/>
            <a:ext cx="6026040" cy="5290920"/>
            <a:chOff x="1558800" y="922320"/>
            <a:chExt cx="6026040" cy="5290920"/>
          </a:xfrm>
        </p:grpSpPr>
        <p:sp>
          <p:nvSpPr>
            <p:cNvPr id="94" name=""/>
            <p:cNvSpPr/>
            <p:nvPr/>
          </p:nvSpPr>
          <p:spPr>
            <a:xfrm>
              <a:off x="1558800" y="922320"/>
              <a:ext cx="6026040" cy="501480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1558800" y="922320"/>
              <a:ext cx="6026040" cy="5290920"/>
              <a:chOff x="1558800" y="922320"/>
              <a:chExt cx="6026040" cy="5290920"/>
            </a:xfrm>
          </p:grpSpPr>
          <p:sp>
            <p:nvSpPr>
              <p:cNvPr id="96" name=""/>
              <p:cNvSpPr/>
              <p:nvPr/>
            </p:nvSpPr>
            <p:spPr>
              <a:xfrm>
                <a:off x="1558800" y="922320"/>
                <a:ext cx="5402160" cy="36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558800" y="922320"/>
                <a:ext cx="6026040" cy="5290920"/>
              </a:xfrm>
              <a:prstGeom prst="rect">
                <a:avLst/>
              </a:prstGeom>
              <a:solidFill>
                <a:srgbClr val="a2b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_tradnl" sz="28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1703520" y="1149480"/>
            <a:ext cx="6796080" cy="360"/>
            <a:chOff x="1703520" y="1149480"/>
            <a:chExt cx="6796080" cy="360"/>
          </a:xfrm>
        </p:grpSpPr>
        <p:sp>
          <p:nvSpPr>
            <p:cNvPr id="99" name=""/>
            <p:cNvSpPr/>
            <p:nvPr/>
          </p:nvSpPr>
          <p:spPr>
            <a:xfrm>
              <a:off x="1703520" y="1149480"/>
              <a:ext cx="6796080" cy="36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03520" y="1149480"/>
              <a:ext cx="6796080" cy="360"/>
            </a:xfrm>
            <a:prstGeom prst="rect">
              <a:avLst/>
            </a:prstGeom>
            <a:solidFill>
              <a:srgbClr val="a2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03520" y="1149480"/>
            <a:ext cx="5736960" cy="45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22:31:49Z</dcterms:created>
  <dc:creator>ASESOR TÉCNICO DEL MEC EN WELLINGTON</dc:creator>
  <dc:description/>
  <dc:language>en-US</dc:language>
  <cp:lastModifiedBy>Owner1</cp:lastModifiedBy>
  <dcterms:modified xsi:type="dcterms:W3CDTF">2008-09-07T08:18:25Z</dcterms:modified>
  <cp:revision>57</cp:revision>
  <dc:subject/>
  <dc:title>Slide 1</dc:title>
</cp:coreProperties>
</file>